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AD6-D11F-45A0-98E5-2153B5B8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B0F-C7BB-4A9C-9748-8D6918BB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FB7-A0D3-460B-BA38-300C7D74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6AE-C36E-4364-B078-B7382D2F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FD7C-D2DD-4246-A0B2-EECA4873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4FAB-721A-4E16-979E-46162111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08F8-4A65-4704-A330-F9DF7C17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B397-E737-42E2-B21F-C1460CCA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DCAA-EFBD-44F9-BFFD-0D67B310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442A-B189-4D32-A779-5F78A092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B40B-AFF2-438B-BCFD-9ECD318B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9B1-FEDC-47EC-B4E1-E668148F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AF2D-92AC-4C21-BC7B-F8EAA6B5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C98A-8EE0-47BF-B0FF-CE23669A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25AA-D782-4E28-8670-47F2F0DA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D187-EF55-40F4-8C7C-73FC6019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8D06-5DB7-4E6C-AED3-2FCA714D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79A-71DC-4C30-BE06-40BEEB39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2CD-2666-4D04-84BA-1D1901EB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205-89BD-4BB2-9903-CE788132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606-DD2F-444F-882A-21726285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0C0-1B18-4780-8869-BD8FCCE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15F-CCD8-4863-BB4A-98F93519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85E-7F8A-43D2-9916-13B0F7A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1345-BDF9-4632-8921-03359E283A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6F39-C55E-4964-84C2-8DED04FAE2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r, We Would See Jesus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rter 9, Lesson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 4:35-41, 5:1-43; Matt. 9:27-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ges 60-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76E4-8547-4462-A7F1-D84C3D3C8E01}" type="slidenum">
              <a:t>1</a:t>
            </a:fld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The Bleeding Woma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5:25-34; Matt. 9:18-22; Luke 8:43-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how this woman met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owed her great fai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Jesus react to her touching His cloth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6CB-530B-42E3-98F9-F7590A7616D8}" type="slidenum">
              <a:t>10</a:t>
            </a:fld>
          </a:p>
        </p:txBody>
      </p:sp>
    </p:spTree>
  </p:cSld>
  <p:transition>
    <p:cover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Jairus’ Daught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5:21-24, 35-43; Matt. 9:23-26; Luke 8:41-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ack to Jairus’ daugh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Jesus told as he approached the ho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how the miracle was per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D67-7677-4F12-A688-BFA7E8DAD2F5}" type="slidenum">
              <a:t>11</a:t>
            </a:fld>
          </a:p>
        </p:txBody>
      </p:sp>
    </p:spTree>
  </p:cSld>
  <p:transition>
    <p:cover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Two Blind Me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. 9:27-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circumstances of this mira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Jesus do to give them s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8FF-70D5-459E-9BE6-A93097FB2874}" type="slidenum">
              <a:t>12</a:t>
            </a:fld>
          </a:p>
        </p:txBody>
      </p:sp>
    </p:spTree>
  </p:cSld>
  <p:transition>
    <p:cover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A Mute Demoniac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. 9:32-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Jesus meet this 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as the multitude ama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id the Pharisees say He got His pow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D3C-8146-45D1-BAD7-FBCD865DA126}" type="slidenum">
              <a:t>13</a:t>
            </a:fld>
          </a:p>
        </p:txBody>
      </p:sp>
    </p:spTree>
  </p:cSld>
  <p:transition>
    <p:cover dir="r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is lesson we learned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a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w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v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(wind and the se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an and his dev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’s sick 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AC2-4682-4BD3-B8BA-56FEA54460FE}" type="slidenum">
              <a:t>14</a:t>
            </a:fld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ife of Chr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3200400"/>
            <a:ext cx="2362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350532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BA4-4339-426F-8CA0-E92E44913D57}" type="slidenum">
              <a:t>2</a:t>
            </a:fld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is Less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performs many more mira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riety of health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fferent ways Jesus h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miracles were accomp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he miracles were accomp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pose of each mira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an was visibly active during the life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2F3-69A0-46E8-BD8D-2BC50374F1DE}" type="slidenum">
              <a:t>3</a:t>
            </a:fld>
          </a:p>
        </p:txBody>
      </p:sp>
    </p:spTree>
  </p:cSld>
  <p:transition>
    <p:cover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Stills The Storm At Sea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4:35-41; Matt. 8:18, 23-27; Luke 8:22-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setting for this mira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He do to calm the st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unique about this mira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an this be, that even the wind and the sea obey Him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9EB-6BD3-4662-B4AB-DD0F29C4500C}" type="slidenum">
              <a:t>4</a:t>
            </a:fld>
          </a:p>
        </p:txBody>
      </p:sp>
    </p:spTree>
  </p:cSld>
  <p:transition>
    <p:cover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The Demoniac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5:1-20; Matt. 8:28-34; Luke 8:26-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occasion when Jesus met the demoni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some of his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as this miracle accomplish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unique and powerful about this mira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39D-37A6-41A1-8685-AE2C11C7B31D}" type="slidenum">
              <a:t>5</a:t>
            </a:fld>
          </a:p>
        </p:txBody>
      </p:sp>
    </p:spTree>
  </p:cSld>
  <p:transition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D73-BEBE-4022-A20F-571167FA345A}" type="slidenum">
              <a:t>6</a:t>
            </a:fld>
          </a:p>
        </p:txBody>
      </p:sp>
    </p:spTree>
  </p:cSld>
  <p:transition>
    <p:cover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se Dem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 equate to evil spir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intelligence and volition of their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used various maladies i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mentioned in the Old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llowed Satan to let demons enter men during the period of His greatest outpouring of His power – the N. 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power always overcame the power of dem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21C-7448-4C1D-8590-42F9EBC9EC06}" type="slidenum">
              <a:t>7</a:t>
            </a:fld>
          </a:p>
        </p:txBody>
      </p:sp>
    </p:spTree>
  </p:cSld>
  <p:transition>
    <p:cover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istics of Dem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talked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 knew who Jesus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sane person would have known Jesus was the So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sane person would request they not be sent to the aby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an will be cast into the abyss (Rev.20: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an is the Prince of the dev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6C7-CD36-4310-A87B-6FFEEA9C48A5}" type="slidenum">
              <a:t>8</a:t>
            </a:fld>
          </a:p>
        </p:txBody>
      </p:sp>
    </p:spTree>
  </p:cSld>
  <p:transition>
    <p:cover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Jairus’ Daught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5:21-24, 35-43; Matt. 9:23-26; Luke 8:41-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setting for this mira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as Jes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as with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Jair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his request of Jes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id Jesus then g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7B0-F0DA-4F33-BF33-517A3A548674}" type="slidenum">
              <a:t>9</a:t>
            </a:fld>
          </a:p>
        </p:txBody>
      </p:sp>
    </p:spTree>
  </p:cSld>
  <p:transition>
    <p:cover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4:42:13Z</dcterms:created>
  <dc:creator>Frank D Vines</dc:creator>
  <dc:description/>
  <dc:language>en-US</dc:language>
  <cp:lastModifiedBy>Frank D Vines</cp:lastModifiedBy>
  <dcterms:modified xsi:type="dcterms:W3CDTF">2006-09-03T13:36:5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